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A67-DEFB-493E-87AA-1C89005A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433-6D5A-4736-818E-79F5634A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F24-10DB-4F8A-AE62-B79F71A5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23C-E9DC-49B0-8481-9F9F7A9A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9D9-97AF-41A1-B957-CD114544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4FB-36BF-4177-9125-4A4AD92B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7AF-14F2-43C9-80C0-966B865C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696-4EB8-4C5E-B154-A7700E0E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855-6892-4EE4-8C17-094D9D61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90E-9B41-40EF-A54D-64D0E881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D09-76A5-4682-8967-36ADEA45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4D4-BF86-41F8-AA84-C4679841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E750-C2C9-48E6-9212-E24E0CF8A5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CA14-003B-40B5-BD1A-DA6C95436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200400" y="152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havi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V="1">
            <a:off x="464832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791320" y="152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me and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6705720" y="5715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udent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3733920" y="5638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adem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 flipV="1">
            <a:off x="4724280" y="327636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73915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1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2"/>
          <p:cNvSpPr/>
          <p:nvPr/>
        </p:nvSpPr>
        <p:spPr>
          <a:xfrm>
            <a:off x="228600" y="51814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7"/>
          <p:cNvSpPr/>
          <p:nvPr/>
        </p:nvSpPr>
        <p:spPr>
          <a:xfrm>
            <a:off x="533520" y="2971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havior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2:32:23Z</dcterms:created>
  <dc:creator>Robert Frantum-Allen</dc:creator>
  <dc:description/>
  <dc:language>en-US</dc:language>
  <cp:lastModifiedBy>Jamie Spears</cp:lastModifiedBy>
  <dcterms:modified xsi:type="dcterms:W3CDTF">2012-04-08T17:25:14Z</dcterms:modified>
  <cp:revision>36</cp:revision>
  <dc:subject/>
  <dc:title>Slide 1</dc:title>
</cp:coreProperties>
</file>